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7CB0-7200-40F0-AB02-24B747140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7866-56F1-4D71-AFDA-4A5122A2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F4C-AE92-4CE5-B0DA-9A25B9EF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C05-0E08-4B1B-878B-F48D382C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1A8-1689-44DE-A410-8F320233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D7C-7188-430D-8083-CF5E8DB5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040-98DA-44AF-B610-B3F0C188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8B5-15DE-40BF-A3DB-6A0AB9EF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9BE-F5D8-4326-82F5-615CE561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4CE-BE32-467A-9029-7BFBC57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9DD-551F-459C-8D8C-82E19E1F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328-F99E-4590-80F8-3859132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C55-0A6E-441C-AF86-4FEA69E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FA2-A9F7-4CCD-8AC2-9337192A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107C-0753-4828-9BD1-3AB5F4709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842080" y="4775040"/>
            <a:ext cx="3301920" cy="208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anklin Gothic Heavy"/>
              </a:rPr>
              <a:t>Educational Technology</a:t>
            </a: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Enhancing education through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fju"/>
          <p:cNvPicPr/>
          <p:nvPr/>
        </p:nvPicPr>
        <p:blipFill>
          <a:blip r:embed="rId2"/>
          <a:stretch/>
        </p:blipFill>
        <p:spPr>
          <a:xfrm>
            <a:off x="4267080" y="5410080"/>
            <a:ext cx="2934000" cy="8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j"/>
          <p:cNvPicPr/>
          <p:nvPr/>
        </p:nvPicPr>
        <p:blipFill>
          <a:blip r:embed="rId3"/>
          <a:stretch/>
        </p:blipFill>
        <p:spPr>
          <a:xfrm>
            <a:off x="7467480" y="556272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oles of Educational Technology in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eaching –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livery vehicle for instructional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rner learns from the technology and the technology serves as a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chnology is seen as a productivity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. Partners in the learning process (constructiv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- technology is a tool to learn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not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kes the learner gather, think, analyze, synthesize information and construct meaning with what technology pres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y serves as a medium in representing what the learner knows and what he/she is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s of Ed tech in the teaching-learning proces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oles of Ed tech in the teaching-learning proces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. Educational Technology helps improve the teaching learning process thro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increasing the degree of learning or ma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4.  Learning is interactive thus learners are encourage to particip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s of technology in learning from the constructivist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s tools to support knowledg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s information vehicles for exploring knowledge to support learning-by-constru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s context to support learning by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 a social medium to support learning by conve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 intellectual partner to support learning-by-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What is Educational Technology all about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994360" y="4775040"/>
            <a:ext cx="3301920" cy="208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fju"/>
          <p:cNvPicPr/>
          <p:nvPr/>
        </p:nvPicPr>
        <p:blipFill>
          <a:blip r:embed="rId2"/>
          <a:stretch/>
        </p:blipFill>
        <p:spPr>
          <a:xfrm>
            <a:off x="4419720" y="5410080"/>
            <a:ext cx="2933640" cy="8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jj"/>
          <p:cNvPicPr/>
          <p:nvPr/>
        </p:nvPicPr>
        <p:blipFill>
          <a:blip r:embed="rId3"/>
          <a:stretch/>
        </p:blipFill>
        <p:spPr>
          <a:xfrm>
            <a:off x="7670880" y="5537160"/>
            <a:ext cx="7617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Technology – is  a holistic  application of learning theories to enhance communication through the use of instructional tools to impact learning and its assessment to develop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technology in supporting learning pro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refers to how people utilize their inventions and discoveries to satisfy their needs and desires such as in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842080" y="4775040"/>
            <a:ext cx="3301920" cy="208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fju"/>
          <p:cNvPicPr/>
          <p:nvPr/>
        </p:nvPicPr>
        <p:blipFill>
          <a:blip r:embed="rId2"/>
          <a:stretch/>
        </p:blipFill>
        <p:spPr>
          <a:xfrm>
            <a:off x="4267080" y="5410080"/>
            <a:ext cx="2934000" cy="800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erely concerned with technology as It impacts upon the learning process such a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ing learn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ng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ssessment and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jj"/>
          <p:cNvPicPr/>
          <p:nvPr/>
        </p:nvPicPr>
        <p:blipFill>
          <a:blip r:embed="rId3"/>
          <a:stretch/>
        </p:blipFill>
        <p:spPr>
          <a:xfrm>
            <a:off x="7518240" y="553716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application of scientific findings in our method, process or procedure or working in the field of education in order to affect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a field study and prof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mbraces curriculum and instructional design, learning environment and theories of teaching-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use of all human inventions for teachers to realize their mission to teach in order that students lea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hases of 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971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114800" y="1295280"/>
            <a:ext cx="2209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6324480" y="2057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289548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6248160" y="3886200"/>
            <a:ext cx="990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733920" y="5029200"/>
            <a:ext cx="2438280" cy="138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 flipH="1" flipV="1">
            <a:off x="2286000" y="40384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23880" y="3495600"/>
            <a:ext cx="2438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39625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429000" y="40384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3429000" y="23619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2"/>
          <p:cNvSpPr/>
          <p:nvPr/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echnology in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28600" y="10666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application  of technology to any of those processes involved in operating the institutions which house the educational enterpris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04920" y="27432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 includes the application of technology to food, health, finance, scheduling, grade, reporting, and other processes which support education within instit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04920" y="47008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he audio visual aids, software and hardware as learning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2:22:55Z</dcterms:created>
  <dc:creator>WL18</dc:creator>
  <dc:description/>
  <dc:language>en-US</dc:language>
  <cp:lastModifiedBy>msu-iit</cp:lastModifiedBy>
  <dcterms:modified xsi:type="dcterms:W3CDTF">2011-06-28T03:20:36Z</dcterms:modified>
  <cp:revision>15</cp:revision>
  <dc:subject/>
  <dc:title>Educational Technology</dc:title>
</cp:coreProperties>
</file>